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031-9A55-42D5-90A7-E6AB1180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625-40F4-4913-B631-4F5261D4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8EA-F57B-4648-B651-CEE51639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0A5-D520-452A-8299-C10130A3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A9A5-BF0C-49B7-83E9-CA5E8B89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63FF-E243-4847-A4B5-E2648844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91AE-014D-47FD-AB13-7118E111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EB3D-6351-4078-905E-EC601A8F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616-E9BB-4974-AC80-7C1129C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98C8-FABD-46A3-B8DB-FEAA041B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51F0-9121-4969-B17E-D0D6F3FB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62B-1505-45C7-8442-E1C311AA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05F9-E406-4035-A23B-465927FE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20B-D380-49B7-96A3-D029ED0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9BB8-1C1F-422E-A973-B7736A4C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E875-19C3-4C1F-97DC-83E7DE48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748C-BE05-41A5-8F15-537E61F9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D2A3B-C1FF-43CC-99D3-9DB83C04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BD56C-3069-4BA7-B7BD-14853E3F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6A8A9-AF68-413F-9307-05FE1289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C36B9-6676-4DB6-A250-D62D6A32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1C8C7-398D-480C-B2D4-D359E92A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F0A-F78D-4B02-AC93-1FE594A0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8A5F6-8849-458F-A138-7BD95B85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ED774-A55D-4A51-B84C-2E49C50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956D5-BAC3-4BE5-B050-09B42746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CB832-C8CA-4573-961D-FAA3E3D5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1AEC7-382D-460D-AB75-6B93BCB7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0961B-11EA-4BDA-AC9E-C565E490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C4F15-DBDF-4AF4-A293-1B819D4B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9236-6CB1-46A2-98E5-8679DBFF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F760-FCDE-4428-9695-45E0AD52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2432-7DAC-4E92-8D97-E8D54B15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544-1F2C-44D9-8613-1B06589E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83B29-60DB-4FCC-821D-FC013E1C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B4FB-4D5C-40C8-AFD5-04BF0D66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06E68-3BCD-4015-94D5-0E24ED52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6D68-B6B8-4777-A627-5A8B779B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559C-9775-4705-BB05-011ED00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1536-E675-46AC-8E62-DA70546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5840-071F-4357-9A71-2A37D4CC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9D8F3-541B-497F-BD15-5D9DC829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51C6-6EEF-45A1-8A93-F33F8A1C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63F-42D9-4465-8E12-57A36CFC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B75-486A-470F-99D2-AF9916B5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F8A-7F9F-4279-AF9F-F4D4A8C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C09-C6FE-4171-8BB1-6ECDBC1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112-35CC-4E17-ACEB-F55EA1AF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de cantos arredondado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ângulo de cantos arredondado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EF67-59ED-4DFD-B21B-D7021B13C9C1}" type="slidenum">
              <a:rPr b="0" lang="pt-B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598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ângulo de cantos arredondados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de cantos arredondados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ângulo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ângulo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0B39-ADC1-40D6-B35C-1BE400C492AF}" type="slidenum">
              <a:rPr b="0" lang="pt-B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ângulo de cantos arredondado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de cantos arredondado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9FF8-36C4-4271-8F0D-15AD4B1E2E9B}" type="slidenum">
              <a:rPr b="0" lang="pt-B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tângu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ângu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ângu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ângu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de cantos arredondados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de cantos arredondados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ângu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ângu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ângu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ângu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6114-3546-493F-BF05-B3039942BE3D}" type="slidenum">
              <a:rPr b="0" lang="pt-BR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dspace.trt12.jus.br/server/api/core/bitstreams/37297da5-327f-4e29-b910-dada28a5cef2/content" TargetMode="External"/><Relationship Id="rId2" Type="http://schemas.openxmlformats.org/officeDocument/2006/relationships/hyperlink" Target="https://dspace.trt12.jus.br/server/api/core/bitstreams/37297da5-327f-4e29-b910-dada28a5cef2/conten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rebuchet MS"/>
              </a:rPr>
              <a:t>Workshop</a:t>
            </a:r>
            <a:endParaRPr b="0" lang="en-US" sz="44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15" name="Diagrama 10" descr=""/>
          <p:cNvPicPr/>
          <p:nvPr/>
        </p:nvPicPr>
        <p:blipFill>
          <a:blip r:embed="rId1"/>
          <a:stretch/>
        </p:blipFill>
        <p:spPr>
          <a:xfrm>
            <a:off x="244440" y="1127160"/>
            <a:ext cx="8369280" cy="1440000"/>
          </a:xfrm>
          <a:prstGeom prst="rect">
            <a:avLst/>
          </a:prstGeom>
          <a:ln w="0">
            <a:noFill/>
          </a:ln>
        </p:spPr>
      </p:pic>
      <p:pic>
        <p:nvPicPr>
          <p:cNvPr id="216" name="Diagrama 11" descr=""/>
          <p:cNvPicPr/>
          <p:nvPr/>
        </p:nvPicPr>
        <p:blipFill>
          <a:blip r:embed="rId2"/>
          <a:stretch/>
        </p:blipFill>
        <p:spPr>
          <a:xfrm>
            <a:off x="822240" y="5151600"/>
            <a:ext cx="7791480" cy="811080"/>
          </a:xfrm>
          <a:prstGeom prst="rect">
            <a:avLst/>
          </a:prstGeom>
          <a:ln w="0">
            <a:noFill/>
          </a:ln>
        </p:spPr>
      </p:pic>
      <p:pic>
        <p:nvPicPr>
          <p:cNvPr id="217" name="Diagrama 12" descr=""/>
          <p:cNvPicPr/>
          <p:nvPr/>
        </p:nvPicPr>
        <p:blipFill>
          <a:blip r:embed="rId3"/>
          <a:stretch/>
        </p:blipFill>
        <p:spPr>
          <a:xfrm>
            <a:off x="103320" y="3932280"/>
            <a:ext cx="4986360" cy="4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beba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O que a sua unidade faz ?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37" name="Espaço Reservado para Conteúdo 3" descr=""/>
          <p:cNvPicPr/>
          <p:nvPr/>
        </p:nvPicPr>
        <p:blipFill>
          <a:blip r:embed="rId1"/>
          <a:stretch/>
        </p:blipFill>
        <p:spPr>
          <a:xfrm>
            <a:off x="-133200" y="1700280"/>
            <a:ext cx="9289800" cy="4608360"/>
          </a:xfrm>
          <a:prstGeom prst="rect">
            <a:avLst/>
          </a:prstGeom>
          <a:ln w="0">
            <a:noFill/>
          </a:ln>
        </p:spPr>
      </p:pic>
      <p:pic>
        <p:nvPicPr>
          <p:cNvPr id="238" name="Diagrama 4" descr=""/>
          <p:cNvPicPr/>
          <p:nvPr/>
        </p:nvPicPr>
        <p:blipFill>
          <a:blip r:embed="rId2"/>
          <a:stretch/>
        </p:blipFill>
        <p:spPr>
          <a:xfrm>
            <a:off x="109440" y="6284880"/>
            <a:ext cx="89251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beba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O que fazer no teletrabalho ?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40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26960" y="2243160"/>
            <a:ext cx="8272440" cy="2279520"/>
          </a:xfrm>
          <a:prstGeom prst="rect">
            <a:avLst/>
          </a:prstGeom>
          <a:ln w="0">
            <a:noFill/>
          </a:ln>
        </p:spPr>
      </p:pic>
      <p:pic>
        <p:nvPicPr>
          <p:cNvPr id="241" name="Diagrama 4" descr=""/>
          <p:cNvPicPr/>
          <p:nvPr/>
        </p:nvPicPr>
        <p:blipFill>
          <a:blip r:embed="rId2"/>
          <a:stretch/>
        </p:blipFill>
        <p:spPr>
          <a:xfrm>
            <a:off x="73080" y="6156360"/>
            <a:ext cx="90345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beba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Arial Rounded MT Bold"/>
              </a:rPr>
              <a:t>É uma atividade típica de teletrabalho?</a:t>
            </a: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43" name="Espaço Reservado para Conteúdo 3" descr=""/>
          <p:cNvPicPr/>
          <p:nvPr/>
        </p:nvPicPr>
        <p:blipFill>
          <a:blip r:embed="rId1"/>
          <a:stretch/>
        </p:blipFill>
        <p:spPr>
          <a:xfrm>
            <a:off x="109440" y="1646280"/>
            <a:ext cx="8577360" cy="4230720"/>
          </a:xfrm>
          <a:prstGeom prst="rect">
            <a:avLst/>
          </a:prstGeom>
          <a:ln w="0">
            <a:noFill/>
          </a:ln>
        </p:spPr>
      </p:pic>
      <p:pic>
        <p:nvPicPr>
          <p:cNvPr id="244" name="Diagrama 4" descr=""/>
          <p:cNvPicPr/>
          <p:nvPr/>
        </p:nvPicPr>
        <p:blipFill>
          <a:blip r:embed="rId2"/>
          <a:stretch/>
        </p:blipFill>
        <p:spPr>
          <a:xfrm>
            <a:off x="0" y="6188040"/>
            <a:ext cx="91440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066680"/>
          </a:xfrm>
          <a:prstGeom prst="rect">
            <a:avLst/>
          </a:prstGeom>
          <a:solidFill>
            <a:srgbClr val="ced6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Indicadores e Metas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46" name="Espaço Reservado para Conteúdo 2" descr=""/>
          <p:cNvPicPr/>
          <p:nvPr/>
        </p:nvPicPr>
        <p:blipFill>
          <a:blip r:embed="rId1"/>
          <a:stretch/>
        </p:blipFill>
        <p:spPr>
          <a:xfrm>
            <a:off x="1109520" y="5761080"/>
            <a:ext cx="7143840" cy="944640"/>
          </a:xfrm>
          <a:prstGeom prst="rect">
            <a:avLst/>
          </a:prstGeom>
          <a:ln w="0">
            <a:noFill/>
          </a:ln>
        </p:spPr>
      </p:pic>
      <p:pic>
        <p:nvPicPr>
          <p:cNvPr id="247" name="Espaço Reservado para Conteúdo 2" descr=""/>
          <p:cNvPicPr/>
          <p:nvPr/>
        </p:nvPicPr>
        <p:blipFill>
          <a:blip r:embed="rId2"/>
          <a:stretch/>
        </p:blipFill>
        <p:spPr>
          <a:xfrm>
            <a:off x="1109520" y="4773600"/>
            <a:ext cx="7143840" cy="974880"/>
          </a:xfrm>
          <a:prstGeom prst="rect">
            <a:avLst/>
          </a:prstGeom>
          <a:ln w="0">
            <a:noFill/>
          </a:ln>
        </p:spPr>
      </p:pic>
      <p:pic>
        <p:nvPicPr>
          <p:cNvPr id="248" name="Espaço Reservado para Conteúdo 2" descr=""/>
          <p:cNvPicPr/>
          <p:nvPr/>
        </p:nvPicPr>
        <p:blipFill>
          <a:blip r:embed="rId3"/>
          <a:stretch/>
        </p:blipFill>
        <p:spPr>
          <a:xfrm>
            <a:off x="1109520" y="3760920"/>
            <a:ext cx="7143840" cy="987120"/>
          </a:xfrm>
          <a:prstGeom prst="rect">
            <a:avLst/>
          </a:prstGeom>
          <a:ln w="0">
            <a:noFill/>
          </a:ln>
        </p:spPr>
      </p:pic>
      <p:pic>
        <p:nvPicPr>
          <p:cNvPr id="249" name="Diagrama 9" descr=""/>
          <p:cNvPicPr/>
          <p:nvPr/>
        </p:nvPicPr>
        <p:blipFill>
          <a:blip r:embed="rId4"/>
          <a:stretch/>
        </p:blipFill>
        <p:spPr>
          <a:xfrm>
            <a:off x="1182600" y="1768320"/>
            <a:ext cx="6784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360" y="54900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Estrutura do Workshop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51" name="Espaço Reservado para Conteúdo 2" descr=""/>
          <p:cNvPicPr/>
          <p:nvPr/>
        </p:nvPicPr>
        <p:blipFill>
          <a:blip r:embed="rId1"/>
          <a:stretch/>
        </p:blipFill>
        <p:spPr>
          <a:xfrm>
            <a:off x="463680" y="1603440"/>
            <a:ext cx="82468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acc1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Criação da metrificação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53" name="Espaço Reservado para Conteúdo 2" descr=""/>
          <p:cNvPicPr/>
          <p:nvPr/>
        </p:nvPicPr>
        <p:blipFill>
          <a:blip r:embed="rId1"/>
          <a:stretch/>
        </p:blipFill>
        <p:spPr>
          <a:xfrm>
            <a:off x="-19080" y="1700280"/>
            <a:ext cx="8997840" cy="1817640"/>
          </a:xfrm>
          <a:prstGeom prst="rect">
            <a:avLst/>
          </a:prstGeom>
          <a:ln w="0">
            <a:noFill/>
          </a:ln>
        </p:spPr>
      </p:pic>
      <p:pic>
        <p:nvPicPr>
          <p:cNvPr id="254" name="Diagrama 7" descr=""/>
          <p:cNvPicPr/>
          <p:nvPr/>
        </p:nvPicPr>
        <p:blipFill>
          <a:blip r:embed="rId2"/>
          <a:stretch/>
        </p:blipFill>
        <p:spPr>
          <a:xfrm>
            <a:off x="3438360" y="3790800"/>
            <a:ext cx="5248440" cy="1579680"/>
          </a:xfrm>
          <a:prstGeom prst="rect">
            <a:avLst/>
          </a:prstGeom>
          <a:ln w="0">
            <a:noFill/>
          </a:ln>
        </p:spPr>
      </p:pic>
      <p:pic>
        <p:nvPicPr>
          <p:cNvPr id="255" name="Diagrama 5" descr=""/>
          <p:cNvPicPr/>
          <p:nvPr/>
        </p:nvPicPr>
        <p:blipFill>
          <a:blip r:embed="rId3"/>
          <a:stretch/>
        </p:blipFill>
        <p:spPr>
          <a:xfrm>
            <a:off x="-182520" y="3621240"/>
            <a:ext cx="3333600" cy="2090520"/>
          </a:xfrm>
          <a:prstGeom prst="rect">
            <a:avLst/>
          </a:prstGeom>
          <a:ln w="0">
            <a:noFill/>
          </a:ln>
        </p:spPr>
      </p:pic>
      <p:pic>
        <p:nvPicPr>
          <p:cNvPr id="256" name="Diagrama 9" descr=""/>
          <p:cNvPicPr/>
          <p:nvPr/>
        </p:nvPicPr>
        <p:blipFill>
          <a:blip r:embed="rId4"/>
          <a:stretch/>
        </p:blipFill>
        <p:spPr>
          <a:xfrm>
            <a:off x="0" y="6424560"/>
            <a:ext cx="9034560" cy="446040"/>
          </a:xfrm>
          <a:prstGeom prst="rect">
            <a:avLst/>
          </a:prstGeom>
          <a:ln w="0">
            <a:noFill/>
          </a:ln>
        </p:spPr>
      </p:pic>
      <p:pic>
        <p:nvPicPr>
          <p:cNvPr id="257" name="Diagrama 11" descr=""/>
          <p:cNvPicPr/>
          <p:nvPr/>
        </p:nvPicPr>
        <p:blipFill>
          <a:blip r:embed="rId5"/>
          <a:stretch/>
        </p:blipFill>
        <p:spPr>
          <a:xfrm>
            <a:off x="-6480" y="5724360"/>
            <a:ext cx="89125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acc1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Mensuração da produtividade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59" name="Diagrama 3" descr=""/>
          <p:cNvPicPr/>
          <p:nvPr/>
        </p:nvPicPr>
        <p:blipFill>
          <a:blip r:embed="rId1"/>
          <a:stretch/>
        </p:blipFill>
        <p:spPr>
          <a:xfrm>
            <a:off x="122400" y="1700280"/>
            <a:ext cx="2303280" cy="1530360"/>
          </a:xfrm>
          <a:prstGeom prst="rect">
            <a:avLst/>
          </a:prstGeom>
          <a:ln w="0">
            <a:noFill/>
          </a:ln>
        </p:spPr>
      </p:pic>
      <p:pic>
        <p:nvPicPr>
          <p:cNvPr id="260" name="Diagrama 5" descr=""/>
          <p:cNvPicPr/>
          <p:nvPr/>
        </p:nvPicPr>
        <p:blipFill>
          <a:blip r:embed="rId2"/>
          <a:stretch/>
        </p:blipFill>
        <p:spPr>
          <a:xfrm>
            <a:off x="2620800" y="1700280"/>
            <a:ext cx="6499440" cy="2158920"/>
          </a:xfrm>
          <a:prstGeom prst="rect">
            <a:avLst/>
          </a:prstGeom>
          <a:ln w="0">
            <a:noFill/>
          </a:ln>
        </p:spPr>
      </p:pic>
      <p:pic>
        <p:nvPicPr>
          <p:cNvPr id="261" name="Diagrama 8" descr=""/>
          <p:cNvPicPr/>
          <p:nvPr/>
        </p:nvPicPr>
        <p:blipFill>
          <a:blip r:embed="rId3"/>
          <a:stretch/>
        </p:blipFill>
        <p:spPr>
          <a:xfrm>
            <a:off x="2554200" y="3492360"/>
            <a:ext cx="3651480" cy="2543400"/>
          </a:xfrm>
          <a:prstGeom prst="rect">
            <a:avLst/>
          </a:prstGeom>
          <a:ln w="0">
            <a:noFill/>
          </a:ln>
        </p:spPr>
      </p:pic>
      <p:pic>
        <p:nvPicPr>
          <p:cNvPr id="262" name="Diagrama 11" descr=""/>
          <p:cNvPicPr/>
          <p:nvPr/>
        </p:nvPicPr>
        <p:blipFill>
          <a:blip r:embed="rId4"/>
          <a:stretch/>
        </p:blipFill>
        <p:spPr>
          <a:xfrm>
            <a:off x="0" y="6278400"/>
            <a:ext cx="9144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Gerenciamento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6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68200" y="1987560"/>
            <a:ext cx="85647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Sistemas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66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55600" y="1987560"/>
            <a:ext cx="85773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Sistemas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68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68200" y="1987560"/>
            <a:ext cx="85647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360" y="54900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O que esperar do Workshop ?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28280"/>
            <a:ext cx="8291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Lugar para compartilhar experiências e práticas sobre teletrabalh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omento de imersão sobre o tema do teletrabalh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onhecer formas e maneiras de gerenciar o teletrabalh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Evento participativo, com práticas e divertid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ais conhecimento para implementar o teletrabalho na unidade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ais métodos e ferramentas para gerenciamento do teletrabalh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ais serviço acumulado (durante o curso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Adaptações para teletrabalho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70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74680" y="1987560"/>
            <a:ext cx="85582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360" y="54900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Estrutura do Workshop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72" name="Espaço Reservado para Conteúdo 2" descr=""/>
          <p:cNvPicPr/>
          <p:nvPr/>
        </p:nvPicPr>
        <p:blipFill>
          <a:blip r:embed="rId1"/>
          <a:stretch/>
        </p:blipFill>
        <p:spPr>
          <a:xfrm>
            <a:off x="463680" y="1603440"/>
            <a:ext cx="82468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Você vai OU você não vai ?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7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85680" y="1847880"/>
            <a:ext cx="8966160" cy="2157480"/>
          </a:xfrm>
          <a:prstGeom prst="rect">
            <a:avLst/>
          </a:prstGeom>
          <a:ln w="0">
            <a:noFill/>
          </a:ln>
        </p:spPr>
      </p:pic>
      <p:pic>
        <p:nvPicPr>
          <p:cNvPr id="275" name="Diagrama 5" descr=""/>
          <p:cNvPicPr/>
          <p:nvPr/>
        </p:nvPicPr>
        <p:blipFill>
          <a:blip r:embed="rId2"/>
          <a:stretch/>
        </p:blipFill>
        <p:spPr>
          <a:xfrm>
            <a:off x="66600" y="3645000"/>
            <a:ext cx="8980560" cy="2878200"/>
          </a:xfrm>
          <a:prstGeom prst="rect">
            <a:avLst/>
          </a:prstGeom>
          <a:ln w="0">
            <a:noFill/>
          </a:ln>
        </p:spPr>
      </p:pic>
      <p:pic>
        <p:nvPicPr>
          <p:cNvPr id="276" name="Diagrama 8" descr=""/>
          <p:cNvPicPr/>
          <p:nvPr/>
        </p:nvPicPr>
        <p:blipFill>
          <a:blip r:embed="rId3"/>
          <a:stretch/>
        </p:blipFill>
        <p:spPr>
          <a:xfrm>
            <a:off x="341280" y="6284880"/>
            <a:ext cx="878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Comunicação com teletrabalhador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78" name="Espaço Reservado para Conteúdo 2" descr=""/>
          <p:cNvPicPr/>
          <p:nvPr/>
        </p:nvPicPr>
        <p:blipFill>
          <a:blip r:embed="rId1"/>
          <a:stretch/>
        </p:blipFill>
        <p:spPr>
          <a:xfrm>
            <a:off x="109440" y="1914480"/>
            <a:ext cx="878544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360" y="54900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Estrutura do Workshop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80" name="Espaço Reservado para Conteúdo 2" descr=""/>
          <p:cNvPicPr/>
          <p:nvPr/>
        </p:nvPicPr>
        <p:blipFill>
          <a:blip r:embed="rId1"/>
          <a:stretch/>
        </p:blipFill>
        <p:spPr>
          <a:xfrm>
            <a:off x="463680" y="1603440"/>
            <a:ext cx="82468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Sistemas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82" name="Diagrama 7" descr=""/>
          <p:cNvPicPr/>
          <p:nvPr/>
        </p:nvPicPr>
        <p:blipFill>
          <a:blip r:embed="rId1"/>
          <a:stretch/>
        </p:blipFill>
        <p:spPr>
          <a:xfrm>
            <a:off x="590400" y="1847880"/>
            <a:ext cx="81756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Documentação do teletrabalho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84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96720" y="2249640"/>
            <a:ext cx="83026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CONCLUSÃO DO WORKSHOP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86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90600" y="2249640"/>
            <a:ext cx="830880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rebuchet MS"/>
              </a:rPr>
              <a:t>Workshop</a:t>
            </a:r>
            <a:endParaRPr b="0" lang="en-US" sz="44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88" name="Diagrama 10" descr=""/>
          <p:cNvPicPr/>
          <p:nvPr/>
        </p:nvPicPr>
        <p:blipFill>
          <a:blip r:embed="rId1"/>
          <a:stretch/>
        </p:blipFill>
        <p:spPr>
          <a:xfrm>
            <a:off x="244440" y="1109520"/>
            <a:ext cx="8734320" cy="1560600"/>
          </a:xfrm>
          <a:prstGeom prst="rect">
            <a:avLst/>
          </a:prstGeom>
          <a:ln w="0">
            <a:noFill/>
          </a:ln>
        </p:spPr>
      </p:pic>
      <p:pic>
        <p:nvPicPr>
          <p:cNvPr id="289" name="Diagrama 11" descr=""/>
          <p:cNvPicPr/>
          <p:nvPr/>
        </p:nvPicPr>
        <p:blipFill>
          <a:blip r:embed="rId2"/>
          <a:stretch/>
        </p:blipFill>
        <p:spPr>
          <a:xfrm>
            <a:off x="6724800" y="255600"/>
            <a:ext cx="2035080" cy="804960"/>
          </a:xfrm>
          <a:prstGeom prst="rect">
            <a:avLst/>
          </a:prstGeom>
          <a:ln w="0">
            <a:noFill/>
          </a:ln>
        </p:spPr>
      </p:pic>
      <p:pic>
        <p:nvPicPr>
          <p:cNvPr id="290" name="Diagrama 12" descr=""/>
          <p:cNvPicPr/>
          <p:nvPr/>
        </p:nvPicPr>
        <p:blipFill>
          <a:blip r:embed="rId3"/>
          <a:stretch/>
        </p:blipFill>
        <p:spPr>
          <a:xfrm>
            <a:off x="1901880" y="2639880"/>
            <a:ext cx="4986360" cy="474840"/>
          </a:xfrm>
          <a:prstGeom prst="rect">
            <a:avLst/>
          </a:prstGeom>
          <a:ln w="0">
            <a:noFill/>
          </a:ln>
        </p:spPr>
      </p:pic>
      <p:pic>
        <p:nvPicPr>
          <p:cNvPr id="291" name="Diagrama 13" descr=""/>
          <p:cNvPicPr/>
          <p:nvPr/>
        </p:nvPicPr>
        <p:blipFill>
          <a:blip r:embed="rId4"/>
          <a:stretch/>
        </p:blipFill>
        <p:spPr>
          <a:xfrm>
            <a:off x="463680" y="3060720"/>
            <a:ext cx="8296200" cy="682560"/>
          </a:xfrm>
          <a:prstGeom prst="rect">
            <a:avLst/>
          </a:prstGeom>
          <a:ln w="0">
            <a:noFill/>
          </a:ln>
        </p:spPr>
      </p:pic>
      <p:pic>
        <p:nvPicPr>
          <p:cNvPr id="292" name="Diagrama 14" descr=""/>
          <p:cNvPicPr/>
          <p:nvPr/>
        </p:nvPicPr>
        <p:blipFill>
          <a:blip r:embed="rId5"/>
          <a:stretch/>
        </p:blipFill>
        <p:spPr>
          <a:xfrm>
            <a:off x="1871640" y="3498840"/>
            <a:ext cx="523080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O que se espera de você ?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628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ontribuição com experiências, ideias, dúvidas, sugestões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Foco e concentração no event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isposição e participaçã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iscrição, confiança, respeito e bom senso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Bom humor, simpatia e alegria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Arial Rounded MT Bold"/>
              </a:rPr>
              <a:t>Pilares para implementação e gerenciamento do teletrabalho</a:t>
            </a: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1844280"/>
            <a:ext cx="864216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3 Ps (Pessoas, Processos, Produto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Implementação na unidade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Processo de execução do teletrabalho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Atividades típicas de teletrabalho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Processo de Acompanhamento do teletrabalho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Fluxo de entrada / execução / manutenção / saída do teletrabalho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Ferramentas e soluções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Documentação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Critérios objetivos  e subjetivos para autorizar o teletrabalho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Ferramentas e canais de Comunicação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Simulação de cenários e situações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Produt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Metrificação da produtividade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Mensuração da produtividade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2557f"/>
                </a:solidFill>
                <a:latin typeface="Trebuchet MS"/>
              </a:rPr>
              <a:t>Resultado: Quantidade / Qualidade / Prazo</a:t>
            </a: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98d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Arial Rounded MT Bold"/>
              </a:rPr>
              <a:t>Simulação de implementação e gerenciamento do teletrabalho</a:t>
            </a: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25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96720" y="1792440"/>
            <a:ext cx="84362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e4e5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Tipos de “Teletrabalho” 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27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246880" cy="2444760"/>
          </a:xfrm>
          <a:prstGeom prst="rect">
            <a:avLst/>
          </a:prstGeom>
          <a:ln w="0">
            <a:noFill/>
          </a:ln>
        </p:spPr>
      </p:pic>
      <p:pic>
        <p:nvPicPr>
          <p:cNvPr id="228" name="Espaço Reservado para Conteúdo 2" descr=""/>
          <p:cNvPicPr/>
          <p:nvPr/>
        </p:nvPicPr>
        <p:blipFill>
          <a:blip r:embed="rId2"/>
          <a:stretch/>
        </p:blipFill>
        <p:spPr>
          <a:xfrm>
            <a:off x="396720" y="4218120"/>
            <a:ext cx="8229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066680"/>
          </a:xfrm>
          <a:prstGeom prst="rect">
            <a:avLst/>
          </a:prstGeom>
          <a:solidFill>
            <a:srgbClr val="e4e5e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O que é “Teletrabalho” ?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11280" y="2249640"/>
            <a:ext cx="8075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rt.2º - Não se enquadram no conceito de teletrabalho e de trabalho remoto por adesão as atividades que, em razão da natureza do cargo ou das atribuições da unidade de lotação, são desempenhadas externamente às dependências do órgão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(PORTARIA CONJUNTA SEAP/GVP/SECOR Nº 118, DE 2 DE JULHO DE 2024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10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d2611c"/>
                </a:solidFill>
                <a:uFillTx/>
                <a:latin typeface="Trebuchet MS"/>
                <a:hlinkClick r:id="rId1"/>
              </a:rPr>
              <a:t>https://</a:t>
            </a:r>
            <a:r>
              <a:rPr b="0" lang="pt-BR" sz="2000" spc="-1" strike="noStrike" u="sng">
                <a:solidFill>
                  <a:srgbClr val="d2611c"/>
                </a:solidFill>
                <a:uFillTx/>
                <a:latin typeface="Trebuchet MS"/>
                <a:hlinkClick r:id="rId2"/>
              </a:rPr>
              <a:t>dspace.trt12.jus.br/server/api/core/bitstreams/37297da5-327f-4e29-b910-dada28a5cef2/content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360" y="54900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Estrutura do Workshop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32" name="Espaço Reservado para Conteúdo 2" descr=""/>
          <p:cNvPicPr/>
          <p:nvPr/>
        </p:nvPicPr>
        <p:blipFill>
          <a:blip r:embed="rId1"/>
          <a:stretch/>
        </p:blipFill>
        <p:spPr>
          <a:xfrm>
            <a:off x="463680" y="1603440"/>
            <a:ext cx="82468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9180360" cy="1066680"/>
          </a:xfrm>
          <a:prstGeom prst="rect">
            <a:avLst/>
          </a:prstGeom>
          <a:solidFill>
            <a:srgbClr val="fbeba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Arial Rounded MT Bold"/>
              </a:rPr>
              <a:t>O que a sua unidade faz ?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pic>
        <p:nvPicPr>
          <p:cNvPr id="23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4613040"/>
          </a:xfrm>
          <a:prstGeom prst="rect">
            <a:avLst/>
          </a:prstGeom>
          <a:ln w="0">
            <a:noFill/>
          </a:ln>
        </p:spPr>
      </p:pic>
      <p:pic>
        <p:nvPicPr>
          <p:cNvPr id="235" name="Diagrama 4" descr=""/>
          <p:cNvPicPr/>
          <p:nvPr/>
        </p:nvPicPr>
        <p:blipFill>
          <a:blip r:embed="rId2"/>
          <a:stretch/>
        </p:blipFill>
        <p:spPr>
          <a:xfrm>
            <a:off x="109440" y="6278400"/>
            <a:ext cx="892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8T16:16:10Z</dcterms:created>
  <dc:creator>c046064</dc:creator>
  <dc:description/>
  <dc:language>en-US</dc:language>
  <cp:lastModifiedBy>Fernanda</cp:lastModifiedBy>
  <dcterms:modified xsi:type="dcterms:W3CDTF">2025-06-12T04:15:36Z</dcterms:modified>
  <cp:revision>110</cp:revision>
  <dc:subject/>
  <dc:title>Workshop – Implementação e Gerenciamento do Teletrabalho</dc:title>
</cp:coreProperties>
</file>